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8B5-2066-4555-A25D-372BD6E1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7FC-5C89-4B3A-9B98-8D8699FB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9B4-A4B2-4DE6-BD67-E88E6617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8D3-0F45-4C36-8054-DA7C4826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E7EA-F685-4D7C-B8CC-0A63F0D5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7659-CEE9-47D0-B04D-47C795E9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E6A0-F3B4-43B5-BAD3-67156B4F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21C6-B090-44FD-BAF3-FBEADF36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F0DA-C284-49CF-A529-7D1558B1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1ABA-DF14-4982-B246-3C1C5AA6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E7CE-6326-4629-B5E6-2054DDE0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BD7-0A50-4D0A-A02D-5DC969FE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5C7C-6A08-4BCA-8207-00C2AB03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89B5-971B-4DAE-8EBE-0A5E8E6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BE2F-0C73-4EE5-ACCB-F7C74E24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8CB2-0190-4D1A-AE6A-D44C6793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2297-39F7-4D8A-B66E-817268EC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16647-E893-4667-AA9A-B3BA39D1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AEDC-5258-4618-8375-C7974615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DE57-5CBF-47AD-990E-09790A0B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A90CE-5977-4D71-AB16-E92C5284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C407-70D6-43A7-A882-BD5CA59C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519-FD2E-46DC-99BA-7D7410E5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391C-331C-4F72-8CD0-2C98D67D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EF04-0512-452C-A948-3EED81A2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C83E-3EBA-4085-B7B1-DF590060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5B27-DAFA-46A8-99B7-FA22019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0F63-B36C-4EA9-BB7E-C332CB8E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8F7C-62BA-4D00-9B1F-2E601158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B7E4-F05E-4529-B344-D016D94A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950E-0772-410E-8F7C-0B693CC9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E21F-D819-4F14-AFD1-063AB033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B38E-0416-4BA2-9A8A-0E964AC5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E06-8B58-4FED-9903-7F17A36C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6F57-B2A4-4D2C-A799-35232042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0C5F-E5F7-427A-A780-CCD18998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FDA00-E27A-4BDE-B660-BF1BF648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AFC5-D588-4763-88C2-BBD78C8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083F-E8C2-4318-8F2D-42ECCE23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1D28-192A-4CC7-9561-59FA73F4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377CE-2FD9-4659-8F64-E927D23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14E0-C92E-4233-A3EC-5C8585BF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9BB74-5B07-4C5D-8726-E36ADFDA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DFC76-26D9-4948-99A6-1A78C5E6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CF2-A547-42DC-9F96-BF3AE70D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ED3A-E852-408B-863A-50777EF2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CEC7C-03B5-4DD0-B7A6-499C5B96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8BFF7-04DE-451B-AB92-99356F1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CC27A-70D3-4542-9111-A5990CE4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41089-83AC-4D15-8D3E-C0494CAB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87D13-43C7-4961-AA74-010C0A5B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8007F-7BE0-4724-8DA7-BF86AD7E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1045-C5DA-44D3-95FC-9C23DF18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2AABF-6E63-4C1A-99E6-CCE39160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21A5-E6F1-47DD-93AD-00617720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39A-FCE2-457F-BEF9-05B1852D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4BF0-51E5-4B11-B173-A4F0D817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7B59-10E5-4FDD-B106-C7F102CD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44051-B224-4984-A754-E9B296C5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F5BFA-17E0-46CD-80DC-318EC68B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2C5CA-9827-4BC9-9155-89440FB4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5DFAB-70AB-4F0D-989C-CCE111EB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9609-3285-4519-81D6-2DAFF107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59AB-AF0F-44C6-864E-BFE10FA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4006F-EFE3-4269-894E-343B60D9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5874-118C-4797-8D66-D1817BC7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E6E-FC40-4317-84A8-060525E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A947-BCAD-41EC-B44B-C981C288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1577-DFE0-4018-9CEB-6463E5C5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52FE2-0F0B-4CE8-97BF-9A67D366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80357-0689-48AC-AF85-97793F77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160B1-589E-4B0E-81F0-056D5C53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884D-4429-473D-8B8E-4786BB0B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56F1-992A-4C7A-9267-19A16251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03CE-7C9F-4DB6-AE94-4ED806A2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D84AD-5450-4C17-8015-097C28BA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8F853-6375-43B8-B661-67928E1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72E-7311-46AE-AA2A-78CC49B0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055C8-8CB1-4299-BCD3-EC49265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F65D8-1FA9-4751-A28E-1E643261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173F-B610-46B9-B198-6B62D046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31324-3BBF-49A6-9B7D-5908901A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CD35-59EF-4B6F-A64B-8EB59D71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11EE4-8890-45CA-A1DB-60A2FFDC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527CA-6830-4335-A32E-09E6E384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FBBFA-303A-4D14-BA95-A25EA141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D13EC-167D-420D-B893-0B6011F0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BF6A7-0653-4B87-A7BE-ED0B421F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582-403C-4213-AFBF-FEDCA51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0EA60-ECAB-414F-ABC0-916D475F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2F23-BCAB-4AA7-BDAB-CF86334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D7673-A01A-4C0B-A7EA-7AFB7CC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54B7-F05B-44B0-B2F3-F5F333B4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D66FF-E9B6-411C-A866-9D049CE1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B4AB0-8151-4D1E-BFB3-87DA9E1E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FEA06-B342-4505-A391-762C35E4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303D-671F-4050-92A0-312463464DD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E245-DE4C-4CEE-82A5-6151134A87D6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8B20-0A82-4BA0-91DE-5AA020BD01D5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62A-D35A-4A42-ADC2-A4352DBC6975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0C8A-101C-4B3E-8D19-3D55685D120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440F-B510-441A-88F5-9956A7F898E7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1AA4-FDF6-4819-98F0-487C340D9C96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4F8A-2365-4450-BA5C-A4D07FF00AA7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Documents and Settings\lowryjc1\Desktop\Traction_logo.png"/>
          <p:cNvPicPr/>
          <p:nvPr/>
        </p:nvPicPr>
        <p:blipFill>
          <a:blip r:embed="rId1"/>
          <a:stretch/>
        </p:blipFill>
        <p:spPr>
          <a:xfrm>
            <a:off x="3214800" y="2071800"/>
            <a:ext cx="2381040" cy="9525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714240" y="6143760"/>
            <a:ext cx="75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Ash Evans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Brantyn Yates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      Josh Lowry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       Mark Bennett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 farm simulation tool that demonstrates the effect on the environment that farm management decisions ha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Lucida Sans Unicode"/>
              </a:rPr>
              <a:t>The user shall be able to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Select view that shows attribute of interest as a transparent overlay for currently selected area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Modify animal mob numbers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Change paddock chemical level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Modify paddock area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Plant foliag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Move stock from one paddock to another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</a:rPr>
              <a:t>Create waterway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ingle area of l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Metrics fully impleme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Basic environmental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Basic creative intera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imple economics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Basic configuration abil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Relevant graph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Several paddocks availa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bility for client to add custom metr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dvanced environmental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Creative user interaction impleme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dvanced economics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All metrics fully modifia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Polished graph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Documents and Settings\lowryjc1\Desktop\6a00e54f88e3b6883301156f2a433b970c-800wi.jpg"/>
          <p:cNvPicPr/>
          <p:nvPr/>
        </p:nvPicPr>
        <p:blipFill>
          <a:blip r:embed="rId2"/>
          <a:stretch/>
        </p:blipFill>
        <p:spPr>
          <a:xfrm>
            <a:off x="1000080" y="1643040"/>
            <a:ext cx="2714760" cy="2446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928800" y="414324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Lucida Sans Unicode"/>
              </a:rPr>
              <a:t>The Hoff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4078800" y="278604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3" descr="C:\Documents and Settings\lowryjc1\Desktop\ovaltine.jpg"/>
          <p:cNvPicPr/>
          <p:nvPr/>
        </p:nvPicPr>
        <p:blipFill>
          <a:blip r:embed="rId3"/>
          <a:stretch/>
        </p:blipFill>
        <p:spPr>
          <a:xfrm>
            <a:off x="5357880" y="1357200"/>
            <a:ext cx="323676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22:17:15Z</dcterms:created>
  <dc:creator>Default-User</dc:creator>
  <dc:description/>
  <dc:language>en-US</dc:language>
  <cp:lastModifiedBy>Default-User</cp:lastModifiedBy>
  <dcterms:modified xsi:type="dcterms:W3CDTF">2009-09-21T22:49:45Z</dcterms:modified>
  <cp:revision>5</cp:revision>
  <dc:subject/>
  <dc:title>Slide 1</dc:title>
</cp:coreProperties>
</file>